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B93E-16F4-45CC-9DE0-8352DB311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AA22-A90E-4B59-ADB4-619D04BA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F826-D37D-43BE-B96F-284758357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8A48-B01C-4053-92CB-A19BF3073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E0B5-D9C9-498F-9D75-7317DE33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9AE1-8AD2-4477-802F-25E21D3B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330E-E00A-42DB-8B6F-A55BE8AF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443A-3DD3-42A9-A8B7-DECDA693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4D9E-EDD1-4EEB-AEEB-F332CB80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BD25-A7F3-4366-AB1D-965C3D79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CF0D-A7BF-485F-8022-4A3A7477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CD03-1607-4C45-9D76-BA8C2F85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AD80-C719-4462-8D75-9988CA7EBC98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4000" y="630360"/>
            <a:ext cx="6480360" cy="33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500" spc="-1" strike="noStrike">
                <a:solidFill>
                  <a:srgbClr val="000000"/>
                </a:solidFill>
                <a:latin typeface="新細明體"/>
              </a:rPr>
              <a:t>老師，謝謝您！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全體同學  敬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02:12:44Z</dcterms:created>
  <dc:creator>user</dc:creator>
  <dc:description/>
  <dc:language>en-US</dc:language>
  <cp:lastModifiedBy>user</cp:lastModifiedBy>
  <dcterms:modified xsi:type="dcterms:W3CDTF">2009-03-19T09:23:48Z</dcterms:modified>
  <cp:revision>12</cp:revision>
  <dc:subject/>
  <dc:title>投影片 1</dc:title>
</cp:coreProperties>
</file>