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0666D-62AE-499C-98FA-E0F107954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E783-A4BE-4857-BC73-03467C78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B9FBA-39A0-45DF-A00A-ADD2D8A4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C1D72-4BFE-4A83-99DC-E65D99F77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AC0AC-D2DC-4501-BC00-D365484E8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C817-83A1-4014-B022-CCDE46727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E147-E84A-4CAF-8F27-7BC3991B7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85157-6235-4FB2-96D8-B59013C8F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715D3-649C-4D7F-8D36-40AEC7010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46F5E-8C0A-41A3-B41A-96D9988D7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57B13-18C7-4EB8-B1A3-F56DE07CE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334C-7C31-424F-B487-97E0A5F6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C4932-DE5F-420B-903E-F4E0D9A7A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66E91-57BE-47DA-93BE-BE02467CC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A81AC-7368-4899-8313-E1F9E5EE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B0AE8-EE9F-450E-A3CE-06EAF11A0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1C611-1E32-4D13-842F-E3B84B99F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B5D47-31C8-4661-B88E-9C15129E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F619-D1E1-40C3-BC63-7A984C42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E066-1305-4BBC-82CA-BBB638CA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38E0-1250-4A45-9704-A2836D7F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206F-1180-4157-A974-2EFD5E53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ED52-0AAF-42D0-B18F-97897B19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7459-645D-4A60-8551-0FADEE8A7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BDEB-38C8-4979-9813-8B715B85A2E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Click to edit the title text format</a:t>
            </a:r>
            <a:endParaRPr b="0" lang="en-US" sz="6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64FC-CA71-45DF-B03C-EC872BA4AF3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334960" y="3789000"/>
            <a:ext cx="3965400" cy="1676520"/>
          </a:xfrm>
          <a:prstGeom prst="rect">
            <a:avLst/>
          </a:prstGeom>
          <a:noFill/>
          <a:ln w="0">
            <a:noFill/>
          </a:ln>
        </p:spPr>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500" spc="-1" strike="noStrike">
                <a:solidFill>
                  <a:srgbClr val="000000"/>
                </a:solidFill>
                <a:latin typeface="Arial"/>
              </a:rPr>
              <a:t>鯨魚與海豚</a:t>
            </a:r>
            <a:endParaRPr b="0" lang="en-US" sz="5500" spc="-1" strike="noStrike">
              <a:solidFill>
                <a:srgbClr val="000000"/>
              </a:solidFill>
              <a:latin typeface="Arial"/>
            </a:endParaRPr>
          </a:p>
        </p:txBody>
      </p:sp>
      <p:sp>
        <p:nvSpPr>
          <p:cNvPr id="92" name="PlaceHolder 2"/>
          <p:cNvSpPr>
            <a:spLocks noGrp="1"/>
          </p:cNvSpPr>
          <p:nvPr>
            <p:ph type="title"/>
          </p:nvPr>
        </p:nvSpPr>
        <p:spPr>
          <a:xfrm>
            <a:off x="178920" y="1420560"/>
            <a:ext cx="828036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0" spc="-1" strike="noStrike">
                <a:solidFill>
                  <a:srgbClr val="ffffff"/>
                </a:solidFill>
                <a:latin typeface="Arial"/>
              </a:rPr>
              <a:t>海洋中的天才</a:t>
            </a:r>
            <a:endParaRPr b="0" lang="en-US" sz="9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鯨與豚</a:t>
            </a:r>
            <a:endParaRPr b="0" lang="en-US" sz="63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鯨主要可分兩大類：</a:t>
            </a:r>
            <a:endParaRPr b="0" lang="en-US" sz="36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須鯨－口中沒有牙齒，只有須</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齒鯨－口中保留牙齒，無須</a:t>
            </a:r>
            <a:endParaRPr b="0" lang="en-US" sz="32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一般統稱體長</a:t>
            </a:r>
            <a:r>
              <a:rPr b="0" lang="zh-TW" sz="3600" spc="-1" strike="noStrike">
                <a:solidFill>
                  <a:srgbClr val="000000"/>
                </a:solidFill>
                <a:latin typeface="Arial"/>
              </a:rPr>
              <a:t>3</a:t>
            </a:r>
            <a:r>
              <a:rPr b="0" lang="zh-TW" sz="3600" spc="-1" strike="noStrike">
                <a:solidFill>
                  <a:srgbClr val="000000"/>
                </a:solidFill>
                <a:latin typeface="Arial"/>
              </a:rPr>
              <a:t>公尺左右的小型齒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基本常識</a:t>
            </a:r>
            <a:endParaRPr b="0" lang="en-US" sz="63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鯨是海洋中的哺乳動物，用肺呼吸，目前形體最大的藍鯨是地球上最大的動物</a:t>
            </a:r>
            <a:endParaRPr b="0" lang="en-US" sz="3600" spc="-1" strike="noStrike">
              <a:solidFill>
                <a:srgbClr val="000000"/>
              </a:solidFill>
              <a:latin typeface="Arial"/>
            </a:endParaRPr>
          </a:p>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若以腦占體重的百分比來判斷動物的聰明程度，則海豚僅次於人，猴子名列第三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海豚與人類</a:t>
            </a:r>
            <a:endParaRPr b="0" lang="en-US" sz="63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個性溫和好玩，常推動海面的漂浮物體遊戲，因此常有海豚救人的故事發生</a:t>
            </a:r>
            <a:endParaRPr b="0" lang="en-US" sz="3600" spc="-1" strike="noStrike">
              <a:solidFill>
                <a:srgbClr val="000000"/>
              </a:solidFill>
              <a:latin typeface="Arial"/>
            </a:endParaRPr>
          </a:p>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能接受人類的訓練，從事表演或成為人類的助手如潛水打撈沉入海底中的物品或傳遞訊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06:42:48Z</dcterms:created>
  <dc:creator>黛琳</dc:creator>
  <dc:description/>
  <dc:language>en-US</dc:language>
  <cp:lastModifiedBy>user</cp:lastModifiedBy>
  <dcterms:modified xsi:type="dcterms:W3CDTF">2009-07-06T03:54:44Z</dcterms:modified>
  <cp:revision>30</cp:revision>
  <dc:subject/>
  <dc:title>海洋中的</dc:title>
</cp:coreProperties>
</file>