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A4F-DF56-4594-B78D-E515A2A7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9C1-EF40-42A0-BDB8-7771D687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B4B-1F65-43C0-8086-856F0E4B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A63-E106-4B6B-9C69-97CCFB80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EB35-D373-425C-BA75-EFBB6480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F0B8-0FD0-477A-9C78-B447262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451-9C8A-43A5-A2A1-93CA6A6E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9C10-67C3-40CA-91C9-D4F7220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5E43-DCAE-4D49-8F22-BC5D970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1C11-F052-42CB-BA04-8A00572E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006-0BED-43B2-9883-964AEFC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6EE-8A25-415B-85A9-8D57DCCC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BA8E-0682-4A72-93C9-C8A52B5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8590-332C-474C-8C15-87C350E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28A-1FFA-435D-AF98-C82FA591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2717-4F5E-4154-93CA-4290E4E2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6445-C707-4909-8BCD-45931232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6F3-ADB9-4C51-8481-6E185152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CDE-A258-4598-9B7A-D74D703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276-114E-4F50-86AF-DFDBB8BC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24D-3033-4C42-8351-24955304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1AC-A795-49E6-BEDF-9445EB1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6F8-27DB-4FCD-BE85-BA60827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6C0-6813-4F5E-99FB-8AC16CC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20000"/>
              </a:lnSpc>
              <a:spcBef>
                <a:spcPts val="2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65B6-6B72-4DEB-8417-1B07D4282123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125-8393-4C78-AA2F-C1AE616BDF9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8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4F5-2C72-4496-806E-5094038F57AE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55F7-2721-4DBE-B939-A30DD35A7F4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99"/>
                </a:solidFill>
                <a:latin typeface="Arial"/>
                <a:ea typeface="華康超明體"/>
              </a:rPr>
              <a:t>推甄履歷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768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與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從小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喜歡玩</a:t>
            </a:r>
            <a:r>
              <a:rPr b="0" lang="zh-TW" sz="2800" spc="-1" strike="noStrike">
                <a:solidFill>
                  <a:srgbClr val="3399ff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3399ff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利用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空閒時間來研讀各種電腦書籍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3399ff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街舞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與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數位影像編修社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熱舞社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台北市立動物園志工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教育部資訊志工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6000" y="1628640"/>
          <a:ext cx="6985080" cy="4071960"/>
        </p:xfrm>
        <a:graphic>
          <a:graphicData uri="http://schemas.openxmlformats.org/drawingml/2006/table">
            <a:tbl>
              <a:tblPr/>
              <a:tblGrid>
                <a:gridCol w="4824360"/>
                <a:gridCol w="216072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全國高級中學資訊學科能力競賽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一等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街舞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成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績保持班上前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爭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取資訊公司工讀機會，預先了解業界實務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07-17T04:04:12Z</dcterms:modified>
  <cp:revision>32</cp:revision>
  <dc:subject/>
  <dc:title>推</dc:title>
</cp:coreProperties>
</file>