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F39-B796-424B-9461-50837244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3CA-7F46-4BB5-AE7E-2F3C8157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3B7-9FDD-4D87-BDC7-191384B4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895-63B5-4021-818F-8DFCA36D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76F8-1171-416F-B0EB-0B3124C6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9BA8-651A-4CE5-9298-DDA1ECA7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379D-88FF-4A9B-855E-96AC3DA8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B3D4-CDD1-479B-9CA7-2CB13D99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6693-9A92-48ED-9167-A3D04A9F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4D4F-70DD-4102-8CAF-353E3DF6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6656-A0BA-4214-B8A4-DC31B63D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7BE-681A-423D-83A1-92727F5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24FC-3F12-4916-8433-B9E002C6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224B-CD61-4AB5-AA2E-95AA746D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6EC2-7644-4D9A-B850-A30247B3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421A-B230-490C-99AB-E90540C9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55F0-6849-4BBE-BAA2-A7E902CB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1AE8-6CB5-469E-BC07-7DF8E7F3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7FA-3E50-49D5-A4F9-E7B03279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A31-4BE3-475E-9D8B-DB528406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879-02CD-4FE9-8C85-D2509489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C0E-E095-4B33-AFF5-08DE8D49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6B2-1C8C-4487-B9D5-8C7CC056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B65-7608-445A-84EE-E478CA0D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120000"/>
              </a:lnSpc>
              <a:spcBef>
                <a:spcPts val="2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7FC0-71E9-4A39-8E14-D620C6108786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E4FC-FA10-4604-AEE9-F5741A3F9C5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28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148C-5885-455B-91C8-EDB6DFC3A0FA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4697-9CBC-40DA-A806-9E20236F3B9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288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333399"/>
                </a:solidFill>
                <a:latin typeface="Arial"/>
                <a:ea typeface="華康超明體"/>
              </a:rPr>
              <a:t>推甄履歷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子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簡報內容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人基本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求學過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幹部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768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社團與志工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得獎紀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未來學習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個人基本資料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姓名：趙子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星光中學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仁愛國中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仁愛國小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推甄科系：資訊管理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求學過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~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從小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喜歡玩</a:t>
            </a:r>
            <a:r>
              <a:rPr b="0" lang="zh-TW" sz="2800" spc="-1" strike="noStrike">
                <a:solidFill>
                  <a:srgbClr val="3399ff"/>
                </a:solidFill>
                <a:latin typeface="新細明體"/>
              </a:rPr>
              <a:t>電腦</a:t>
            </a: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3399ff"/>
                </a:solidFill>
                <a:latin typeface="新細明體"/>
              </a:rPr>
              <a:t>資訊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很有興趣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高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利用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空閒時間來研讀各種電腦書籍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考取多項</a:t>
            </a:r>
            <a:r>
              <a:rPr b="0" lang="zh-TW" sz="2800" spc="-1" strike="noStrike">
                <a:solidFill>
                  <a:srgbClr val="3399ff"/>
                </a:solidFill>
                <a:latin typeface="Arial"/>
              </a:rPr>
              <a:t>證照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幹部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一：電腦小老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協助解決同學疑問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協助老師整理教材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二：體育股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帶領全班同學獲得啦啦隊比賽第一名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三：班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帶領同學得到學年精神總錦標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專長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書處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程式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英文演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美術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街舞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社團與志工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社團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數位影像編修社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熱舞社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志工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台北市立動物園志工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教育部資訊志工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得獎紀錄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16000" y="1628640"/>
          <a:ext cx="6985080" cy="4071960"/>
        </p:xfrm>
        <a:graphic>
          <a:graphicData uri="http://schemas.openxmlformats.org/drawingml/2006/table">
            <a:tbl>
              <a:tblPr/>
              <a:tblGrid>
                <a:gridCol w="4824360"/>
                <a:gridCol w="216072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項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成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全國高級中學資訊學科能力競賽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第一等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全縣反盜版海報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校際網頁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校際英文演說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校際街舞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校際作文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佳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未來學習計畫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課業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成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績保持班上前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5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名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語言學習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通過全民英檢中高級檢定 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其他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ff"/>
                </a:solidFill>
                <a:latin typeface="Arial"/>
              </a:rPr>
              <a:t>爭</a:t>
            </a:r>
            <a:r>
              <a:rPr b="1" lang="zh-TW" sz="2800" spc="-1" strike="noStrike">
                <a:solidFill>
                  <a:srgbClr val="3399ff"/>
                </a:solidFill>
                <a:latin typeface="新細明體"/>
              </a:rPr>
              <a:t>取資訊公司工讀機會，預先了解業界實務</a:t>
            </a:r>
            <a:endParaRPr b="1" lang="en-US" sz="28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3:52:41Z</dcterms:created>
  <dc:creator>E063</dc:creator>
  <dc:description/>
  <dc:language>en-US</dc:language>
  <cp:lastModifiedBy>user</cp:lastModifiedBy>
  <dcterms:modified xsi:type="dcterms:W3CDTF">2009-07-17T04:04:12Z</dcterms:modified>
  <cp:revision>32</cp:revision>
  <dc:subject/>
  <dc:title>推</dc:title>
</cp:coreProperties>
</file>