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0D295-4A05-4A16-981E-8564B5247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223D9-6AD1-4DB1-A4DD-663AC8408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33DB8-4544-441D-8F86-A0912AD15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64AD4-5F89-43BB-BDDB-B5325A0E9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1FB691-DFDD-4197-83CD-9319C6F31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82CBE-8650-4749-B532-263FA4808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5A21D-1191-45C1-A386-711D9B642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223F8-65A9-4066-9090-8DEE138F5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5386C-50AA-44DF-93F2-B2FB1EED4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02855-5214-4DCB-B6C5-960E271D2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16CE2-90BC-4A6A-9D7E-1C30D0AE1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82F9B-D6D1-463E-A442-6393C8348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381023-F328-4BF6-B248-25C89522D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8B2B8-C3CD-448B-AF42-2C63D47B1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84BA3-4B0D-4356-B19B-F0BDDE5DC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C90E4-CC2B-4444-9D7B-CF9CB01D1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DA294-4740-4FBE-85E3-1F3245C92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433D3-B739-42A1-9332-9051E3B4B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ED0A9-9E2C-4D56-B4B4-F0A29EB86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179F7-3296-4EF5-B7A0-76F40225B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27F9B-96FC-41C6-9458-94B21723C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921F-7D6F-4CEE-8D05-13B334C80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AE06-4F83-416A-85C8-C40726303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9704C-DD96-4570-8F36-66C1BB32D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28F7-98D1-45C5-A3DD-CE0796F937B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Arial"/>
              </a:rPr>
              <a:t>Click to edit the title text format</a:t>
            </a:r>
            <a:endParaRPr b="0" lang="en-US" sz="62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486B-5184-4714-8157-224D89E87AC7}"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334960" y="3789000"/>
            <a:ext cx="3965400" cy="1676520"/>
          </a:xfrm>
          <a:prstGeom prst="rect">
            <a:avLst/>
          </a:prstGeom>
          <a:noFill/>
          <a:ln w="0">
            <a:noFill/>
          </a:ln>
        </p:spPr>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500" spc="-1" strike="noStrike">
                <a:solidFill>
                  <a:srgbClr val="000000"/>
                </a:solidFill>
                <a:latin typeface="Arial"/>
              </a:rPr>
              <a:t>鯨魚與海豚</a:t>
            </a:r>
            <a:endParaRPr b="0" lang="en-US" sz="5500" spc="-1" strike="noStrike">
              <a:solidFill>
                <a:srgbClr val="000000"/>
              </a:solidFill>
              <a:latin typeface="Arial"/>
            </a:endParaRPr>
          </a:p>
        </p:txBody>
      </p:sp>
      <p:sp>
        <p:nvSpPr>
          <p:cNvPr id="92" name="PlaceHolder 2"/>
          <p:cNvSpPr>
            <a:spLocks noGrp="1"/>
          </p:cNvSpPr>
          <p:nvPr>
            <p:ph type="title"/>
          </p:nvPr>
        </p:nvSpPr>
        <p:spPr>
          <a:xfrm>
            <a:off x="178920" y="1420560"/>
            <a:ext cx="8280360" cy="1431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0" spc="-1" strike="noStrike">
                <a:solidFill>
                  <a:srgbClr val="ffffff"/>
                </a:solidFill>
                <a:latin typeface="Arial"/>
              </a:rPr>
              <a:t>海洋中的天才</a:t>
            </a:r>
            <a:endParaRPr b="0" lang="en-US" sz="9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ff"/>
                </a:solidFill>
                <a:latin typeface="Arial"/>
              </a:rPr>
              <a:t>鯨與豚</a:t>
            </a:r>
            <a:endParaRPr b="0" lang="en-US" sz="63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鯨主要可分兩大類：</a:t>
            </a:r>
            <a:endParaRPr b="0" lang="en-US" sz="36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須鯨－口中沒有牙齒，只有須</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齒鯨－口中保留牙齒，無須</a:t>
            </a:r>
            <a:endParaRPr b="0" lang="en-US" sz="3200" spc="-1" strike="noStrike">
              <a:solidFill>
                <a:srgbClr val="000000"/>
              </a:solidFill>
              <a:latin typeface="Arial"/>
            </a:endParaRPr>
          </a:p>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海豚：一般統稱體長</a:t>
            </a:r>
            <a:r>
              <a:rPr b="0" lang="zh-TW" sz="3600" spc="-1" strike="noStrike">
                <a:solidFill>
                  <a:srgbClr val="000000"/>
                </a:solidFill>
                <a:latin typeface="Arial"/>
              </a:rPr>
              <a:t>3</a:t>
            </a:r>
            <a:r>
              <a:rPr b="0" lang="zh-TW" sz="3600" spc="-1" strike="noStrike">
                <a:solidFill>
                  <a:srgbClr val="000000"/>
                </a:solidFill>
                <a:latin typeface="Arial"/>
              </a:rPr>
              <a:t>公尺左右的小型齒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ff"/>
                </a:solidFill>
                <a:latin typeface="Arial"/>
              </a:rPr>
              <a:t>基本常識</a:t>
            </a:r>
            <a:endParaRPr b="0" lang="en-US" sz="63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鯨是海洋中的哺乳動物，用肺呼吸，目前形體最大的藍鯨是地球上最大的動物</a:t>
            </a:r>
            <a:endParaRPr b="0" lang="en-US" sz="3600" spc="-1" strike="noStrike">
              <a:solidFill>
                <a:srgbClr val="000000"/>
              </a:solidFill>
              <a:latin typeface="Arial"/>
            </a:endParaRPr>
          </a:p>
          <a:p>
            <a:pPr marL="343080" indent="-343080">
              <a:lnSpc>
                <a:spcPct val="9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若以腦占體重的百分比來判斷動物的聰明程度，則海豚僅次於人，猴子名列第三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300" spc="-1" strike="noStrike">
                <a:solidFill>
                  <a:srgbClr val="ffffff"/>
                </a:solidFill>
                <a:latin typeface="Arial"/>
              </a:rPr>
              <a:t>海豚與人類</a:t>
            </a:r>
            <a:endParaRPr b="0" lang="en-US" sz="63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海豚個性溫和好玩，常推動海面的漂浮物體遊戲，因此常有海豚救人的故事發生</a:t>
            </a:r>
            <a:endParaRPr b="0" lang="en-US" sz="3600" spc="-1" strike="noStrike">
              <a:solidFill>
                <a:srgbClr val="000000"/>
              </a:solidFill>
              <a:latin typeface="Arial"/>
            </a:endParaRPr>
          </a:p>
          <a:p>
            <a:pPr marL="343080" indent="-343080">
              <a:lnSpc>
                <a:spcPct val="9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海豚能接受人類的訓練，從事表演或成為人類的助手如潛水打撈沉入海底中的物品或傳遞訊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9T06:42:48Z</dcterms:created>
  <dc:creator>黛琳</dc:creator>
  <dc:description/>
  <dc:language>en-US</dc:language>
  <cp:lastModifiedBy>user</cp:lastModifiedBy>
  <dcterms:modified xsi:type="dcterms:W3CDTF">2009-07-06T03:54:44Z</dcterms:modified>
  <cp:revision>30</cp:revision>
  <dc:subject/>
  <dc:title>海洋中的</dc:title>
</cp:coreProperties>
</file>