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FB4-E3CE-413D-A284-F96D7BCA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DE2-CCB3-47CA-AA55-BCA2612C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A2A-35F6-4464-8784-3F1D9B5D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8E0-EF1C-48A0-B596-BF31B10B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9A0-6319-4113-AD6B-EB884530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7F2-5A93-4238-90C9-DE6C7C79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BF9-3960-4EED-921F-0C67A9EE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784-015E-4C05-A80B-98B5C286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1CF-0B76-4239-A33D-9456AB91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C6F-B463-4E82-B704-F4F3CB0B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4F5-8FD3-4AAD-BA13-8D7B998F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814-2A56-4165-A015-A47C067B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9015-400C-4F42-8C41-02C411F85FA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630360"/>
            <a:ext cx="6480360" cy="33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500" spc="-1" strike="noStrike">
                <a:solidFill>
                  <a:srgbClr val="000000"/>
                </a:solidFill>
                <a:latin typeface="新細明體"/>
              </a:rPr>
              <a:t>老師，謝謝您！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全體同學  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2:12:44Z</dcterms:created>
  <dc:creator>user</dc:creator>
  <dc:description/>
  <dc:language>en-US</dc:language>
  <cp:lastModifiedBy>user</cp:lastModifiedBy>
  <dcterms:modified xsi:type="dcterms:W3CDTF">2009-03-19T09:23:48Z</dcterms:modified>
  <cp:revision>12</cp:revision>
  <dc:subject/>
  <dc:title>投影片 1</dc:title>
</cp:coreProperties>
</file>